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7D34-4102-45F4-9C2C-69E98823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8AF8-41B3-459E-AD9B-EDC49567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EB6A-B92B-43E2-A1AA-004C9959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9263-4845-4FE5-A1E8-EE87E84F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81D-A4B2-4C95-8AC3-AB5B24E4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D1CD-A459-4577-B04A-3FE8F13C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508C-57D7-492D-8AEE-BCD740B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97E-7480-4D35-A7BA-DCAA81C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7A5E-3884-44DB-B037-362178A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4A9F-D994-4D72-9585-F9E22F0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F459-CB01-4092-9C03-846F2E9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4645-8404-4E2A-9663-54FC748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4F26-30C7-4E42-92ED-E299FF1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3BE-D8FE-4A20-8D16-15D0C4CC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68FE-4D88-4612-BEE0-496C451A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837-CB48-48BF-A050-140C0AA2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EAD0-F5DB-4C6C-9DBA-203E24A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094BA-5C04-40BF-A7A9-796B67CB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712F-EDAC-47B7-8D0D-A77F8E7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40BC-EC83-4D9B-B224-EA8646E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B365-5343-4458-A7B0-F45F77CD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2DE9-C1EA-4A1F-A386-E4E5F2A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0647-E792-4E8B-B18E-A84AE27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FF43-0E46-4795-B161-D1B60919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B79-D7FD-4EC1-B0F4-AB5E2EB9B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3294-DA59-49C1-9EB1-AEE1AED8E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zoss.com/personal/egypt/images/Valley%20of%20the%20Kings%20at%20sunrise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solarnavigator.net/geography/geography_images/Egypt_Cairo_evening_view_from_the_Tower_of_Cairo_October_2004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66680" y="685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auhaus 93"/>
              </a:rPr>
              <a:t>Egyp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1814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reated by Josh N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orks Cited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ttp://ezinearticles.com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touregypt.net.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egypt.com. February 22, 2009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bc.co.uk. February 22, 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lobalis.gvu.unu.edu. February 24, 200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8120" y="22860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nd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6000"/>
          </a:blip>
          <a:srcRect l="3923" t="5001" r="3880" b="5001"/>
          <a:stretch/>
        </p:blipFill>
        <p:spPr>
          <a:xfrm>
            <a:off x="0" y="0"/>
            <a:ext cx="285120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10 Nice sandstone and granite landforms, Nuweiba, Egypt"/>
          <p:cNvPicPr/>
          <p:nvPr/>
        </p:nvPicPr>
        <p:blipFill>
          <a:blip r:embed="rId3"/>
          <a:stretch/>
        </p:blipFill>
        <p:spPr>
          <a:xfrm>
            <a:off x="6081840" y="2057400"/>
            <a:ext cx="3062160" cy="4067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371600" y="3519360"/>
            <a:ext cx="4248000" cy="3338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35812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Bauhaus 93"/>
              </a:rPr>
              <a:t>Natural Resources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1887480"/>
            <a:ext cx="4343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e Wax and H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al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ime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Rounded MT Bold"/>
              </a:rPr>
              <a:t>Climate and Veget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am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Wild Cats and Pan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Jackal and Fo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ile Crocod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Snakes (Cobras and oth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676520"/>
            <a:ext cx="3429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te Pa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press and El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pes and many vege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Fl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fa Gr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0880" y="152280"/>
            <a:ext cx="8458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vernment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22320"/>
            <a:ext cx="7467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Dr. Ahmed Nazif is the Prime Min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Egypt is a democracy with a two house system like the U.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Age expectancy is 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51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Arial"/>
              </a:rPr>
              <a:t>Population is over 74 mill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434340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00600" cy="335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auhaus 93"/>
              </a:rPr>
              <a:t>History and Current Event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80060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1295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3, 2005- A secret door in an Egyptian tomb has led archeologists to find a mummy that was covered in beads that are intact after laying there for 2,500 year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29528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bruary 23, 2009- A market in Cairo was bombed and left 20 people injured and 1 dead.  There are 3 suspects in custody no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257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517 Egypt was conquered by Sultan Selim I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Garamond"/>
              </a:rPr>
              <a:t>Economy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xtile factories, production of cement, iron and steel, chemicals, sugar, tobacco, and rubber produc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ajor exports include oil, coal, petroleum, and chemical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re is a 71.4% literacy rat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currency is the Egyptian pound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0" y="241920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Berlin Sans FB Demi"/>
              </a:rPr>
              <a:t>Culture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ome dress like us and others dress more like the people of the middle east with veils and long dress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staple food is bread along with dried fish, onions, radishes, and other vegetabl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majority speech Arab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main religion is Muslim along with Islam and Christian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The architecture is unique. Hence the pyramids and temples.  The average house is usually an apartment not too much different than that of the U.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laces to Visi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yrami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Cairo (Capital of Egypt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Abu Simbel 20ft high statues carved out of sandston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Karnak Tempels is a huge complex of templ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Valley of the Kings is 62 tombs located in the valley. 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411480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3657600" y="4647960"/>
            <a:ext cx="3733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676520"/>
            <a:ext cx="1819080" cy="131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1676520" y="2133360"/>
            <a:ext cx="32763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18Z</dcterms:created>
  <dc:creator>joshuadnell</dc:creator>
  <dc:description/>
  <dc:language>en-US</dc:language>
  <cp:lastModifiedBy>joshuadnell</cp:lastModifiedBy>
  <dcterms:modified xsi:type="dcterms:W3CDTF">2009-02-24T19:28:39Z</dcterms:modified>
  <cp:revision>9</cp:revision>
  <dc:subject/>
  <dc:title>Slide 1</dc:title>
</cp:coreProperties>
</file>